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7A6-6DBE-4039-87B0-D7497D3C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916-F383-4E78-99F5-2D01A8A0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98B-659C-4125-AE1A-EBFA4E57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B7B-0351-48CE-9418-6BF88E31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990-7DDE-4886-93F1-9DB6CC82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165-9579-4A69-BA53-C427A4B5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594-224D-4D40-AED1-565769E4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76D-8A08-41EC-AEBB-DE7BCC0D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17F-CB24-4A52-9565-F40C0916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61B-E41E-4D70-88C4-1DB94851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F7D-8901-4FFF-B005-0F72AE4E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5A4D-2E3A-4FBF-B2BE-0A90BEE9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8BFD-FCCC-48BE-8D61-30CDEE73DD0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01CA-4FBD-4830-AEB9-5B02FE4A8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me Design, Game A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, sadly,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ug Chu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 October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what Real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 Game – write AI to keep races cl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oter – enemies die lots, win lit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rts – commentators, help pl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TS – generals who work on pa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Question of Design Purp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E4DA-3EA8-4115-8A84-D500A433E2D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087BA-AD8F-41B1-8201-BE8CF7AAE6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cific Random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ra Nova “army field manual” irrelev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nout city drivers - want cars to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Shock – security camera “syste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entator – explain “internal”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W “Correct distance” – to help draw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D41-875F-4525-84F1-4B606D36818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55D36-B4A4-4CCD-B26B-E1560843BF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i Case Study: Deus Ex A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 is realism” – no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focus on performance, sens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er often had no idea what had happe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e sure AI’s “announce” all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ificial behaviors to support player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6C4-01B4-47AA-A75F-80BF2759BA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EF830-19F5-4CAE-B532-23A6AB8676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me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games get bui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goal for Player Exper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is the AI going to further that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 of the desig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 of the progra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“design” evo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EA1-FBF2-4833-B484-D86CC22AE8A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FCEDD-D0AA-48AF-B759-514C5202FE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a Game A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 for the desig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il for the player, creates opport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ts: Emulation v. 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sts in Driving the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9F7-2A47-475B-8512-449293F00F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3BD6F-4996-44B2-9E8A-02B6D33915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ipping Games vs. Test C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constraint on CPU u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oducibility is vital, for test and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fun, not corr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succeed, finish, do something,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4F8-37BA-4528-956C-7B6E075C2F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1A894-BE77-44E6-AECD-7DFB8BFB93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i Case Stud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ief 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Go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er is going to be a Thie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e. Sneak Around, Ambush, Hide, Ste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 must allow players to make pl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react to player actions, provide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 will feature a loose overall 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ility to script/overrid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game actions fed back out to story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25E-B00E-4708-86BC-5006A119123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74E84-F515-486D-9003-FD6389892A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ch-able” by the play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to “go about it’s business” with i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ons must make sense to pl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estingly predictab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 play opportunities for p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emphasize thou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graph all 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s must be very explic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953-9DF3-4EDB-AE53-D91D81440D8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1A898-C567-4F97-94E5-82C0C193FD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line of Tal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Games, What are AI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they have met, and failed to m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are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’s My 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lots of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ime for Q&amp;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1FD-5B56-4008-B557-3D293FABDE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FC7A6-9059-407C-B06D-0E6F7CCDE7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senses, detection, awar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vent based “reaction” scri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gging of world objects which notify 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rol paths, dynamic “go-to-objec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 based match database for spe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ily designer driven, toolset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80C-0508-4DF5-B052-330D4277289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2C582-5FCB-4A18-B5D0-0FE861892D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i Case Stud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rts 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entator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itement, plus reason for play res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ite range of possible utter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 quality” is often less important than the “media asset qualit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to be silent than stup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 isn’t good enou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take a knee != loss of 2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E90-4A65-40A9-B221-C89BF9226A1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2FE01-759B-4EF1-8207-44DED9241B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 Computer Op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player ways to make the big 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ictable often more important than sm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chine opponents are babysitters, not ruthless op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ver AI decision no better than secret special knowledge if player cant t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ers aren’t pro players, or pro strateg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87C-6FBE-4343-BCCB-8E8E149954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44926-A657-4E32-B3D5-B8CBD5A9A6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ny of this make sen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the Player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player to understand AI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s to achieve design aim (and fu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gurable, Override-able, Te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tisfies data and speed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59BF-1313-4814-B219-8F9D0065ECE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D0EC9-C890-4CD5-ACC1-B8866EB179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er Player Player Player Player Pl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AI enhance player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 is facilitator of the “fu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ble creative expression for pl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 player to impact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 player in interesting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1C1-36BD-4917-860B-24407E5243B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AA238-CEB8-4CDA-BB94-A562BED23D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portuni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 Masters – AI for dramatic a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rts/Racing – personality, not just better die rolls or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PC’s with real goals players can aid/f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ive Difficulty based on pl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ess can become less mechan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more save/load till you get it “righ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FE1-3334-4E43-88D0-47A1EAC1C95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91E9A-9D92-454D-AFD7-8911BA2D24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y Agen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I to impact game play, designers need better tools, and ones that they underst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more sophisticated foils can we give players interesting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d challenges lead to experience more about the player, and what player w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 about players are more interesting than games about desig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2EE-851F-4832-B980-88D04037592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D2DF3-E083-4351-AE65-D8C5DF5B6A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 are still usually things to “Solv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y become things to experience, the player will be able to invest far more, and thus the reward for playing will be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122-9EF4-4774-8990-1C84B6B65D2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FBA37-4B04-40E3-ACBE-1B1840FFD6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it that we are talking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ground: Ter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 – specifically computer,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 – notion of algorithmic decision mak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 Design – procedural autho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 Industry – market, customer, 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3BE-E379-4390-AAD8-7C4B1039E3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7AEBC-897D-467E-BAF0-FBF34B98C1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ground: A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, E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ing Enviro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ing Logic, Resolving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making, w/Attitude B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“virtual people”, as su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C99-3481-4CBA-9EE4-DC28A7FF4BE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D8E8E-0EB0-4554-ACA1-81248C425F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ground: Game Gen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cing – other c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on – enemies, a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TS –units, commanders (for both sid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PG – monsters, party members, NPC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rts – players, coaches, commentato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oter – targets, more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09A-93F9-46A6-9131-A0D3ABE697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886BE-792A-4763-8EB8-7A761A9721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Game A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tuations where “AI” might be, could be, should be, and is used in 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 Game – write a virtual dr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oter – write a virtual pl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rts Games – write a virtual c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TS – write a virtual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B6D-ECEC-42D3-8A32-2A2BF358BE2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06B16-5BD4-4739-A942-C442C21F5B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i Case Study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cing Game 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“AI” cars, only real players are dri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” cars which follow scripted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low path, adjust sp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back system to follow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bber band” near pl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mpt to have driver “personality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DB1-3223-424F-B104-42786DF03EB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156C9-3F29-4049-81CE-9823964F3B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4:31:26Z</dcterms:created>
  <dc:creator>Doug Church</dc:creator>
  <dc:description/>
  <dc:language>en-US</dc:language>
  <cp:lastModifiedBy>John E. Laird</cp:lastModifiedBy>
  <dcterms:modified xsi:type="dcterms:W3CDTF">2001-10-18T13:25:15Z</dcterms:modified>
  <cp:revision>13</cp:revision>
  <dc:subject/>
  <dc:title>Game Design, Game AI</dc:title>
</cp:coreProperties>
</file>